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gif" ContentType="image/gif"/>
  <Override PartName="/ppt/media/image2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9.gif" ContentType="image/gif"/>
  <Override PartName="/ppt/media/image14.jpeg" ContentType="image/jpeg"/>
  <Override PartName="/ppt/media/image15.png" ContentType="image/png"/>
  <Override PartName="/ppt/media/image11.png" ContentType="image/png"/>
  <Override PartName="/ppt/media/coin.wav" ContentType="audio/x-wav"/>
  <Override PartName="/ppt/media/image23.png" ContentType="image/pn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E96-E656-4FFD-A26B-17E992EE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B95-C6FA-476F-97EC-33615175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3EE-7BDB-4472-B313-5CD23970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04D-17DB-4B87-BE24-A32A88EA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56AD-0E6F-420B-9231-5B692D80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7730-FE30-4349-855F-0F43B14B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CAE6-2DBD-46A4-8599-ED9ED35B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5E22-389B-459E-920C-D8A1FAC8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D8B2-269C-4FC3-8AA8-052AF43A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0A11-CD0F-45D5-8FAD-EEE9551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78CA-21B8-446A-BAAF-E59A2D45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397-52B4-4016-9022-3A793297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46CE-EBC5-409E-9A9C-73401DAF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52E1-F8F1-4A60-8427-C3519B64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88F0-FF5D-4207-A80A-B9D8F07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544E-A76C-4FD0-B3F5-A24686A1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68FE-FAA4-450D-9B78-5B9BA6E2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3996-E04D-46AB-8491-8DC7058E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97AD-AD03-49FF-AD3F-3F5568A4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59D9-F571-4765-9F36-BFB965B2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5BC0-0655-4269-8B76-A9AC25C6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EAE4-78DB-4E56-8A0E-540FF4A3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3E6-2B77-463E-BDDA-D14790FD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7812-F864-4FD0-97BC-3F930D1F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02019-CE5A-4EB7-B0D9-3434AF7E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BA90-E51D-4924-9918-13C6D86B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228D1-EA14-4578-B22C-50899A30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FA8E-6D83-4E2F-A624-11A05FA9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CABB-A763-4571-B686-24639A79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3B27-3434-4BA5-9F81-8FA9E50F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6C0B-7099-4839-9521-8482A056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8B47C-3636-4B3F-A91B-56760514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4CA5D-1EA3-4BD0-82C4-B60233D6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D5B-D484-416B-8ED8-9E5750D7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22745-42A2-4ECC-9E30-2A422B19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BE4B5-A519-401F-8E11-330318C7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BB30-10AE-448F-AC9F-70D189AC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9E08-7D76-47FF-85C0-9D4F2F4B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49A62-D439-43C1-82A9-3CDDC843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285BA-BC69-4264-8876-71A4BE7F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AF15-01C1-48C2-A0BC-64E1A848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5830D-427D-4A45-819E-1A79FA28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3D382-E106-4C0D-8881-0984F619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B6B83-0DB6-4BA2-8CD8-94810DA0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CD5-C74E-4F72-A672-F094ED1B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51ED9-B2B7-4019-8113-73DBBFB3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B568-2994-4261-9965-FCA576CE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E1640-B82E-47C2-9E36-6F8CC3CB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9261-5624-4A8A-9042-26BBADD1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A843D-2F00-4A44-AE0D-20831AB0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4A5DC-5704-419D-918C-6EED1B0A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39281-9A80-47E7-BA8F-9BC43B58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3C54-176A-4340-9A1A-8C3C02F1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9A8E-7D5E-48BF-86C0-6C6E0B10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25620-DE0D-41A7-A521-2D8279C2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41D-695A-4DC9-B634-767ECFCC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8DED-D7E6-45DB-94AB-2783D565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86956-2A42-4871-824C-E14B9557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83EEF-8DAD-44BC-B016-FE39C6DC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1D8B5-7CD1-48FB-9D76-BE53FB12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838B-D8B4-4A26-895F-EC55EEB7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BD35-0E98-4F07-BFA3-0CF86379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70401-B191-4465-A952-2C501A3B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19E4E-796B-4CC1-ACCC-B08FAA0B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B3DC-A128-4385-B8A6-A7E276E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1D4CB-CC8F-4D79-90A1-8599C68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0A1-AC0B-433B-86AF-F011390F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B588B-30BD-4A5E-A953-59184E78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68A59-947A-4F30-82FB-9F499867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C1FF8-922B-4FF3-8E0F-5FC2647F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A27-15D4-4002-BBC9-C44982EE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B20-FED1-43D1-9DCC-B5A66C82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A0AE-1C56-4493-A9A2-B67F1223DF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228C-0C2F-405B-8D12-56A31876FD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B2B5-9BCA-438F-B607-79276F44B3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5EE0-C03C-435C-96E2-0768896CE3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6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052F-F2F1-4930-98CE-C5645FAF3B9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1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1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2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A528-00BC-4710-ADF9-1C46B1EFEF5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mailto:vtopildiev@mail.ru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4" descr="images_38[1].jpg"/>
          <p:cNvPicPr/>
          <p:nvPr/>
        </p:nvPicPr>
        <p:blipFill>
          <a:blip r:embed="rId1"/>
          <a:stretch/>
        </p:blipFill>
        <p:spPr>
          <a:xfrm>
            <a:off x="291960" y="-133200"/>
            <a:ext cx="7712280" cy="2138040"/>
          </a:xfrm>
          <a:prstGeom prst="rect">
            <a:avLst/>
          </a:prstGeom>
          <a:ln w="0">
            <a:noFill/>
          </a:ln>
        </p:spPr>
      </p:pic>
      <p:sp>
        <p:nvSpPr>
          <p:cNvPr id="368" name="Oval 9"/>
          <p:cNvSpPr/>
          <p:nvPr/>
        </p:nvSpPr>
        <p:spPr>
          <a:xfrm>
            <a:off x="7858080" y="285840"/>
            <a:ext cx="1143000" cy="1071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2699640"/>
            <a:ext cx="820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500" spc="-1" strike="noStrike">
                <a:solidFill>
                  <a:srgbClr val="008000"/>
                </a:solidFill>
                <a:latin typeface="Arial"/>
              </a:rPr>
              <a:t>ТАЪЛИМ ВА ТАРБИЯ ЖАРАЁНЛАРИНИ ТАШКИЛ ЭТИШНИНГ  Қ</a:t>
            </a:r>
            <a:r>
              <a:rPr b="1" i="1" lang="ru-RU" sz="3500" spc="-1" strike="noStrike">
                <a:solidFill>
                  <a:srgbClr val="008000"/>
                </a:solidFill>
                <a:latin typeface="Arial"/>
              </a:rPr>
              <a:t>ОНУН ХУЖЖАТЛАР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5640" y="530064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</a:t>
            </a:r>
            <a:r>
              <a:rPr b="1" lang="uz-Cyrl-UZ" sz="2000" spc="-1" strike="noStrike">
                <a:solidFill>
                  <a:srgbClr val="ffffff"/>
                </a:solidFill>
                <a:latin typeface="Tahoma"/>
              </a:rPr>
              <a:t>.ф.н., доцент  В.Р.Топилди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vtopildiev@mail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4"/>
          <p:cNvSpPr/>
          <p:nvPr/>
        </p:nvSpPr>
        <p:spPr>
          <a:xfrm>
            <a:off x="324000" y="1628640"/>
            <a:ext cx="853416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онун</a:t>
            </a: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Ўзбекистон Республикасида энг муҳим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барқарор  ижтимоий муносабатларни тартиб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соладиган, Ўзбекистон Республикаси Ол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томонидан ёки референдум ўткази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йўли билан қабул қилинадиган олий юрид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учга эга бўл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4"/>
          <p:cNvSpPr/>
          <p:nvPr/>
        </p:nvSpPr>
        <p:spPr>
          <a:xfrm>
            <a:off x="324000" y="1628640"/>
            <a:ext cx="8640720" cy="3745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н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давл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ошлиғи томонидан мамлакатимизда биро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ир сохада жуда катта ўзгаришларга оли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ладиган ўта мухим масалалар бўйи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 асосида ҳамда уларни ижр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этиш учун қабул 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4"/>
          <p:cNvSpPr/>
          <p:nvPr/>
        </p:nvSpPr>
        <p:spPr>
          <a:xfrm>
            <a:off x="395280" y="1628640"/>
            <a:ext cx="8534520" cy="34578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Фармойиш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кечиктириб бўлмай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тезда бажарилиши лоз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бўлг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салалар бўйича ваколатли давлат органла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ёки мансабдор шахслар томонидан қабу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4"/>
          <p:cNvSpPr/>
          <p:nvPr/>
        </p:nvSpPr>
        <p:spPr>
          <a:xfrm>
            <a:off x="0" y="1484280"/>
            <a:ext cx="9144000" cy="388800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Қарор</a:t>
            </a: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Ўзбекистон Республикаси Конституция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 қонунлари, Ўзбекистон Республикаси Ол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жлиси палаталарининг қарорлари, Ўзбекист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Республикаси Президентининг фармонла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арорлари ва фармойишлари асосида ҳам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уларни ижро этиш учун Ўзбекистон Республик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ар Маҳкамаси томонидан қабул қилинадиг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4"/>
          <p:cNvSpPr/>
          <p:nvPr/>
        </p:nvSpPr>
        <p:spPr>
          <a:xfrm>
            <a:off x="0" y="1197000"/>
            <a:ext cx="9325080" cy="4537080"/>
          </a:xfrm>
          <a:prstGeom prst="verticalScroll">
            <a:avLst>
              <a:gd name="adj" fmla="val 125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Буйруқ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идоралар, корхоналар ва ташкилотлар томонид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Конституцияс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онунлари, Ўзбекистон Республикаси Олий Мажли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алаталарининг қарорлари, 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Президентининг фармонлари, қарорлари 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фармойишлари, Ўзбекистон Республикаси Вазирл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Маҳкамасининг қарорлари ва фармойиш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асосида ҳамда уларни ижро этиш учун қабу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қилинадиган норматив хужж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55640" y="404640"/>
            <a:ext cx="7848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ва тарбия жараёнларин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ҳуқуқий асослар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2205000"/>
            <a:ext cx="81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1.Ўзбекистон Республикасининг Конституцияс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682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2.Ўзбекистон Республикасининг “Таълим тўғрисида”ги Қону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3.Кадрлар тайёрлаш Миллий Дасту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Ўзбекистон Республикаси Президентининг фармонлари, фармойишлари,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5.Ўзбекистон Республикаси Вазирлар Махкамасининг қарор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хсус ваколатли давлат органлар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нинг буйруқла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067280" y="2001960"/>
            <a:ext cx="48974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вало, барчамиз бир ҳақиқатни англаб, тушуниб бормоқдамиз – бугун жамиятимизда қандай ютуқ ва марраларга эришаётган бўлсак, буларнинг пойдеворида Конституциямиз, буюк ҳаёт қомусимиз турибди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Tahoma"/>
              </a:rPr>
              <a:t>И.А.Карим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851280" cy="3546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179280" y="260280"/>
            <a:ext cx="8964720" cy="1197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D:\temur's documents\rasmlar temur\dars uchun\konstitutsiya.jpg"/>
          <p:cNvPicPr/>
          <p:nvPr/>
        </p:nvPicPr>
        <p:blipFill>
          <a:blip r:embed="rId3"/>
          <a:stretch/>
        </p:blipFill>
        <p:spPr>
          <a:xfrm>
            <a:off x="0" y="1700280"/>
            <a:ext cx="3995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5357880" cy="230508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Конституция» тушунчаси лотинча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titytio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» сўзидан келиб чиққан бўлиб, ўрнатиш жорий этиш маъносини билдиради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BCF0-8AE7-425C-8310-4942A750D89F}" type="slidenum">
              <a:rPr b="0" lang="en-US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 rot="1617600">
            <a:off x="6372000" y="1557000"/>
            <a:ext cx="2092320" cy="265428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3789360"/>
            <a:ext cx="5113440" cy="2303640"/>
          </a:xfrm>
          <a:prstGeom prst="rect">
            <a:avLst/>
          </a:prstGeom>
          <a:gradFill rotWithShape="0">
            <a:gsLst>
              <a:gs pos="0">
                <a:srgbClr val="99d4f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Дунёдаги илк Конституция -1787 йилдаги АҚШнинг Конституцияси б</a:t>
            </a:r>
            <a:r>
              <a:rPr b="0" lang="uz-Cyrl-UZ" sz="2800" spc="-1" strike="noStrike">
                <a:solidFill>
                  <a:srgbClr val="0000ff"/>
                </a:solidFill>
                <a:latin typeface="Arial"/>
                <a:ea typeface="Arial"/>
              </a:rPr>
              <a:t>ўлиб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у шу кунгача амал қилиб келмоқ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72FE-6B31-4252-84E6-68022203B4B7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 rot="1963200">
            <a:off x="7164000" y="980640"/>
            <a:ext cx="1419120" cy="1800360"/>
          </a:xfrm>
          <a:prstGeom prst="rect">
            <a:avLst/>
          </a:prstGeom>
          <a:ln w="0">
            <a:noFill/>
          </a:ln>
        </p:spPr>
      </p:pic>
      <p:sp>
        <p:nvSpPr>
          <p:cNvPr id="429" name="Заголовок 1"/>
          <p:cNvSpPr/>
          <p:nvPr/>
        </p:nvSpPr>
        <p:spPr>
          <a:xfrm>
            <a:off x="900000" y="2602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ЎЗБЕКИСТОН РЕСПУБЛИКАСИ КОНСТИТУЦИЯ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Diagram 7"/>
          <p:cNvGrpSpPr/>
          <p:nvPr/>
        </p:nvGrpSpPr>
        <p:grpSpPr>
          <a:xfrm>
            <a:off x="395280" y="1341360"/>
            <a:ext cx="8497440" cy="5230080"/>
            <a:chOff x="395280" y="1341360"/>
            <a:chExt cx="8497440" cy="5230080"/>
          </a:xfrm>
        </p:grpSpPr>
        <p:pic>
          <p:nvPicPr>
            <p:cNvPr id="431" name="Схема 7" descr=""/>
            <p:cNvPicPr/>
            <p:nvPr/>
          </p:nvPicPr>
          <p:blipFill>
            <a:blip r:embed="rId2"/>
            <a:stretch/>
          </p:blipFill>
          <p:spPr>
            <a:xfrm>
              <a:off x="395280" y="1532160"/>
              <a:ext cx="8497440" cy="50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Picture 13"/>
            <p:cNvSpPr/>
            <p:nvPr/>
          </p:nvSpPr>
          <p:spPr>
            <a:xfrm>
              <a:off x="538560" y="1341360"/>
              <a:ext cx="1980000" cy="13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Picture 5" descr="uz1"/>
          <p:cNvPicPr/>
          <p:nvPr/>
        </p:nvPicPr>
        <p:blipFill>
          <a:blip r:embed="rId3"/>
          <a:stretch/>
        </p:blipFill>
        <p:spPr>
          <a:xfrm>
            <a:off x="826920" y="1357200"/>
            <a:ext cx="2030760" cy="123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CC61-BEAE-4C2C-8ECD-469FA6E6EFD7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Organization Chart 68"/>
          <p:cNvGrpSpPr/>
          <p:nvPr/>
        </p:nvGrpSpPr>
        <p:grpSpPr>
          <a:xfrm>
            <a:off x="324000" y="78480"/>
            <a:ext cx="8424720" cy="6523560"/>
            <a:chOff x="324000" y="78480"/>
            <a:chExt cx="8424720" cy="6523560"/>
          </a:xfrm>
        </p:grpSpPr>
        <p:pic>
          <p:nvPicPr>
            <p:cNvPr id="436" name="Схема 6" descr=""/>
            <p:cNvPicPr/>
            <p:nvPr/>
          </p:nvPicPr>
          <p:blipFill>
            <a:blip r:embed="rId1"/>
            <a:stretch/>
          </p:blipFill>
          <p:spPr>
            <a:xfrm>
              <a:off x="324000" y="333360"/>
              <a:ext cx="8424720" cy="62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Picture 82"/>
            <p:cNvSpPr/>
            <p:nvPr/>
          </p:nvSpPr>
          <p:spPr>
            <a:xfrm rot="1963800">
              <a:off x="6419880" y="340920"/>
              <a:ext cx="1542600" cy="19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Picture 83"/>
            <p:cNvSpPr/>
            <p:nvPr/>
          </p:nvSpPr>
          <p:spPr>
            <a:xfrm>
              <a:off x="731160" y="340920"/>
              <a:ext cx="2183760" cy="14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9" name="Picture 5" descr="uz1"/>
          <p:cNvPicPr/>
          <p:nvPr/>
        </p:nvPicPr>
        <p:blipFill>
          <a:blip r:embed="rId2"/>
          <a:stretch/>
        </p:blipFill>
        <p:spPr>
          <a:xfrm>
            <a:off x="900000" y="642960"/>
            <a:ext cx="2473560" cy="114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 rot="1963200">
            <a:off x="6573960" y="659880"/>
            <a:ext cx="136512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140360" y="2349360"/>
            <a:ext cx="4824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таълим тизимида таълим ва тарбиянинг узвий равишда олиб борилиши нафақат мамлакатнинг интеллектуал жиҳатдан юксалишига, шунингдек, маънавий баркамол бўлишини ҳа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таъминлайди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6237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.А.Карим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995640" cy="4581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Латыпов\Desktop\gerb.gif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9640" y="2349360"/>
            <a:ext cx="8209080" cy="1739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Ўзбекистон Республик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аълим тўғрисида”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Қону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Rectangle 3"/>
          <p:cNvGrpSpPr/>
          <p:nvPr/>
        </p:nvGrpSpPr>
        <p:grpSpPr>
          <a:xfrm>
            <a:off x="395280" y="2128680"/>
            <a:ext cx="8424360" cy="4483080"/>
            <a:chOff x="395280" y="2128680"/>
            <a:chExt cx="8424360" cy="448308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395280" y="2417400"/>
              <a:ext cx="842436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30280" y="2128680"/>
              <a:ext cx="8231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Умумий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қ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идалар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ва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урлар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 жараёни қатнашчиларини ижтимоий химоя қил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аълим тизими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ни бошқари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Якунловчи қоидала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Rectangle 2"/>
          <p:cNvGrpSpPr/>
          <p:nvPr/>
        </p:nvGrpSpPr>
        <p:grpSpPr>
          <a:xfrm>
            <a:off x="684360" y="404640"/>
            <a:ext cx="8013240" cy="1511280"/>
            <a:chOff x="684360" y="404640"/>
            <a:chExt cx="8013240" cy="1511280"/>
          </a:xfrm>
        </p:grpSpPr>
        <p:pic>
          <p:nvPicPr>
            <p:cNvPr id="446" name="Rectangle 2" descr="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80132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60320" y="613440"/>
              <a:ext cx="7833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Таълим тўғрисида”ги қонуннинг тузилиш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ълим соҳасидаги давлат сиёсатининг асосий принциплари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Скругленный прямоугольник 4"/>
          <p:cNvGrpSpPr/>
          <p:nvPr/>
        </p:nvGrpSpPr>
        <p:grpSpPr>
          <a:xfrm>
            <a:off x="2195640" y="5157720"/>
            <a:ext cx="6754680" cy="1366560"/>
            <a:chOff x="2195640" y="5157720"/>
            <a:chExt cx="6754680" cy="1366560"/>
          </a:xfrm>
        </p:grpSpPr>
        <p:pic>
          <p:nvPicPr>
            <p:cNvPr id="45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95640" y="5157720"/>
              <a:ext cx="675468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293920" y="5298840"/>
              <a:ext cx="65692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рта махсус, касб-ҳунар таълими йўналишини: академик лицейда ёки касб-ҳунар коллежида ўқишни танлашнинг ихтиё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45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мумий ўрта,</a:t>
              </a:r>
              <a:r>
                <a:rPr b="1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ўрта махсус, касб-ҳунар таълимининг мажбурий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45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 ва изчил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45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аълим ва тарбиянинг инсонпарвар, демократик характерда эканлиги;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1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7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63840" y="591120"/>
            <a:ext cx="7979760" cy="778320"/>
          </a:xfrm>
          <a:prstGeom prst="rect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нинг дунёвий характерда экан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с двумя скругленными противолежащими углами 6"/>
          <p:cNvSpPr/>
          <p:nvPr/>
        </p:nvSpPr>
        <p:spPr>
          <a:xfrm>
            <a:off x="539640" y="1773360"/>
            <a:ext cx="8158320" cy="100008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лат таълим стандартлари доирасида таълим олишнинг ҳамма учун очиқл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с двумя скругленными противолежащими углами 6"/>
          <p:cNvSpPr/>
          <p:nvPr/>
        </p:nvSpPr>
        <p:spPr>
          <a:xfrm>
            <a:off x="539640" y="2997360"/>
            <a:ext cx="8229600" cy="93636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дастурларини танлашга ягона ва табақалаштирилган ёндашу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с двумя скругленными противолежащими углами 6"/>
          <p:cNvSpPr/>
          <p:nvPr/>
        </p:nvSpPr>
        <p:spPr>
          <a:xfrm>
            <a:off x="539640" y="4221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мли бўлишни ва истеъдодни рағбатлантириш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с двумя скругленными противолежащими углами 6"/>
          <p:cNvSpPr/>
          <p:nvPr/>
        </p:nvSpPr>
        <p:spPr>
          <a:xfrm>
            <a:off x="539640" y="5445000"/>
            <a:ext cx="8158320" cy="936720"/>
          </a:xfrm>
          <a:prstGeom prst="pie">
            <a:avLst/>
          </a:prstGeom>
          <a:solidFill>
            <a:srgbClr val="3366ff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ълим тизимида давлат ва жамоат бошқарувини уйғунлаштириш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900000" y="260280"/>
            <a:ext cx="7632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илим олиш ҳуқуқ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26828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1.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лат ва нодавлат таълим муассасаларини ривожлантир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2.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лаб чиқаришдан ажралган ва ажралмаган ҳолда таълим олишни ташкил э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3.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ълим ва кадрлар тайёрлаш давлат дастурлари асосида бепул ўқитиш, шунингдек, таълим муассасаларида шартнома асосида тўлов эвазига касб-ҳунар ўргати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Б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ча турдаги таълим муассасаларининг битирувчилари кейинги босқичдаги ўқув юртларига киришда тенг ҳуқуқларга эга бўлиш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5.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ада ёки ўзи мустақил равишда билим олган фуқароларга аккредитациядан ўтган таълим муассасаларида экстернат тартибида аттестациядан ўтиш ҳуқуқини бериш орқали таъминлана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468360" y="1484280"/>
            <a:ext cx="8245440" cy="144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гишли маълумоти, касб тайёргарлиги бор ва юксак ахлоқий фазилатларга эга бўлган шахслар педагогик фаолият билан шуғулланиш ҳуқуқига э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468360" y="3141720"/>
            <a:ext cx="8316720" cy="158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ни олий ўқув юртларига ишга қабул қилиш Ўзбекистон Республикаси Вазирлар Маҳкамаси тасдиқлаган Низомга мувофиқ танлов асосида амалга оширил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4869000"/>
            <a:ext cx="8318520" cy="15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ик фаолият билан шуғулланиш суд ҳукмига асосан ман этилган шахсларнинг таълим муассасаларида бу фаолият билан шуғулланишига йўл қўйилмай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8360" y="333000"/>
            <a:ext cx="820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дагогик фаолият билан шу</a:t>
            </a:r>
            <a:r>
              <a:rPr b="1" lang="uz-Cyrl-UZ" sz="3000" spc="-1" strike="noStrike">
                <a:solidFill>
                  <a:srgbClr val="ffffff"/>
                </a:solidFill>
                <a:latin typeface="Arial"/>
              </a:rPr>
              <a:t>ғулланиш ҳуқуқ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ОЛИЙ ТАЪЛИМ ПЕДАГОГ КАДРЛАРИГ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ҚЎЙИЛАДИГАН ТАЛАБЛА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муассасаси ўқитувчиси магистр даражасидан паст бўлмаган олий маълумотга эга бўлиши, илмий-тадқиқот фаолиятини олиб бориши 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ва қуйидагиларни билиши лозим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давлат таълим стандарти (асосий қоидалар), Кадрлар тайёрлашнинг тегишли таълим  йўналиши ва мутахассислиги бўйича давлат таълим стандарти, шунингдек, ўқитилаётган фан бўйича ўқув дастури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лий таълим тўғрисидаги норматив - ҳуқуқий ва директив ҳужжатларн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35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йўналишлари ва магистратура ихтисослари бўйича ўқув жараёнини ташкил этиш ва унинг сифатини таъминлашнинг замонавий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режалари ва ўқув фанлари дастурларини такомиллаш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юкламаларини режалаштириш ва уларнинг бажарилишини назорат қил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қув фанлари мазмуни ва уларни ўқитишдаги изчиллик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ўқув машғулотларининг ҳар хил турларини (маърузалар, амалий машғулотлар,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минарлар,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лаборатория машғулотлари, курс ишларини) ўтказиш методикас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лабалар ўртасида миллий мустақиллик ғоялари асосида маънавий-ахлоқий ва тарбиявий ишларни олиб бориш принцип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дагогика ва касб-ҳунар бўйича муомала қилиш назарияси ва амалиё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ълим жараёни қатнашчилари билан ўзаро муносабатларда этика нормалари ва нутқ маданият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чет тиллардан биттасида сўзлашув нутқи асослар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2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стақил таълим олиш йўли билан ўз билимларини такомиллаштири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да танқидий фикрлашни шакллантириш принцип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алавриат ва магистратура таълим дастурларида изчиллик ва мослашувчанлик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буюртмачилари ва меҳнат бозори эҳтиёжларини ҳисобга олган ҳолда ўқув режаларини ва фан дастурларини шакллантир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ўз билимини мустақил оширишини ташкилий ва методик таъминлаш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11280" y="765000"/>
            <a:ext cx="8137440" cy="5040360"/>
          </a:xfrm>
          <a:prstGeom prst="flowChartMultidocumen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ҳуқуқий ҳужж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-  бу 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матив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ҳуқуқий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хужжатлар тўғрисидаги 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ун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вофиқ қабул қилинган, умуммажбур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лат кўрсатмалари сифатида ҳуқуқ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арни белгилашга, ўзгартиришга ё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кор қилишга қаратилган расмий ҳужжатд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134120" y="5095800"/>
            <a:ext cx="20098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лабаларнинг билимлари, маҳоратлари ва кўникмаларини рейтинг бўйича назорат қилишни ташкил этиш ва илмий-методик таъминла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дрлар тайёрлаш сифатига таъсир кўрсатадиган омиллар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, фан ва ишлаб чиқаришни интеграциялашни ташкил этиш асос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қтидорли талабаларни қидириб топиш, танлаш ва улар билан ишлаш методлар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ий таълимда менежмент ва маркетинг асослари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042920" y="4726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сининг 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ҳуқуқий мақо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211860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юридик шахс бўлиб, қонун ҳужжатларида белгиланган тартибда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шки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ила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 қонун ҳужжатларига мувофиқ ишлаб чиқилган устав асосида фаолият кўрсата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лари уставда белгиланган вазифаларига мувофиқ пулли таълим хизматлари кўрсатиш, шунингдек, тадбиркорлик фаолиятининг бошқа турлари билан шуғулланишга ҳақ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11280" y="1257480"/>
            <a:ext cx="820872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ълим муассасалаpи уставини ишлаб чи</a:t>
            </a:r>
            <a:r>
              <a:rPr b="1" lang="uz-Cyrl-UZ" sz="36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РТИБ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азирлар Маҳкамасинин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998 йил 5 январдаги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-сон қаpоpиг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илова сифатида тасдиқланган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азкур Тартибга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Ўзбекистон Республикас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зирлар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ҳкамасининг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20.06.2011 й. 183-сон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Қарорига мувофиқ ўзгартиришлар киритилга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971640" y="6897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СТАВНИНГ ТУЗИЛИ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202320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умий қоидала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 муассасасининг мақсад ва вазифалаp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олувчила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ва илмий-услубий 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м муассасасининг тузили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ходимлар,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ў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-тарбиявий ходим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ълим муассасасига рахбарлик к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амоат ташкило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-мулки ва мабла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0.Қ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та ташкил этиш ва тугат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тарти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755640" y="549360"/>
            <a:ext cx="770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лат таълим стандарт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242100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 умумий ўрта, ўрта махсус, касб-ҳунар ва олий таълим мазмунига ҳамда сифатига қўйиладиган талабларни белгилай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лат таълим стандартларини бажариш Ўзбекистон Республикасининг барча таълим муассасалари учун мажбурийд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547640" y="54936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аълим тизи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1773360"/>
            <a:ext cx="835164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авлат стандартларига мувофиқ таълим дастурларини амалга оширувчи давлат ва нодавлат таълим муассасалари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тизимининг фаолият кўрсатиши ва ривожланишини таъминлаш учун зарур бўлган тадқиқот ишларини бажарувчи илмий-педагогик муассасалар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ълим соҳасидаги давлат бошқарув органлари, шунингдек, уларга қарашли корхоналар, муассасалар ва ташкилотлар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Ўзбекистон Республикасида таълим </a:t>
            </a:r>
            <a:r>
              <a:rPr b="0" lang="uz-Cyrl-UZ" sz="4000" spc="-1" strike="noStrike">
                <a:solidFill>
                  <a:srgbClr val="ffffff"/>
                </a:solidFill>
                <a:latin typeface="Arial"/>
              </a:rPr>
              <a:t>турла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гач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умий ўрта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ўрта махсус, касб-ҳунар таъли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й ўқув юртидан кейинги таъли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дрлар малакасини ошириш ва уларни қайта тайёрлаш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табдан ташқари таъл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 тўғрисидаги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ҳужжат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37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кредитация қилинган таълим муассасаларининг битирувчиларига давлат томонидан тасдиқланган намунадаги маълумот тўғрисидаги ҳужжат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берилад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ттестат</a:t>
            </a: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п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ртифик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оҳно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00000" y="40464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ЪЛИМ ЖАРАЁНИ ҚАТНАШЧИЛАРИНИ ИЖТИМОИЙ ҲИМОЯ ҚИЛИ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1628640"/>
            <a:ext cx="6913440" cy="719280"/>
          </a:xfrm>
          <a:prstGeom prst="wedgeRoundRectCallout">
            <a:avLst>
              <a:gd name="adj1" fmla="val -43754"/>
              <a:gd name="adj2" fmla="val 16226"/>
              <a:gd name="adj3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Таълим олувчиларни ижтимоий ҳимоя қил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87280" y="2637000"/>
            <a:ext cx="6913800" cy="792000"/>
          </a:xfrm>
          <a:prstGeom prst="wedgeRoundRectCallout">
            <a:avLst>
              <a:gd name="adj1" fmla="val -43754"/>
              <a:gd name="adj2" fmla="val 10120"/>
              <a:gd name="adj3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Таълим муассасалари ходимларини ижтимоий ҳимоя қили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3645000"/>
            <a:ext cx="6913440" cy="1152360"/>
          </a:xfrm>
          <a:prstGeom prst="wedgeRoundRectCallout">
            <a:avLst>
              <a:gd name="adj1" fmla="val -43754"/>
              <a:gd name="adj2" fmla="val 3856"/>
              <a:gd name="adj3" fmla="val 16667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Етим болаларни ва ота-оналарининг ёки бошқа қонуний вакилларининг васийлигисиз қолган болаларни ўқити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5013360"/>
            <a:ext cx="6913800" cy="1008000"/>
          </a:xfrm>
          <a:prstGeom prst="wedgeRoundRectCallout">
            <a:avLst>
              <a:gd name="adj1" fmla="val -42722"/>
              <a:gd name="adj2" fmla="val 68740"/>
              <a:gd name="adj3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смоний ёки руҳий ривожланишида нуқсони бўлган болалар ва ўсмирларни ўқити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95280" y="2366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9640" y="2349360"/>
            <a:ext cx="820908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ЎЗБЕКИСТОН РЕСПУБЛИКА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ffffff"/>
                </a:solidFill>
                <a:latin typeface="Arial"/>
              </a:rPr>
              <a:t>ОЛИЙ ТАЪЛИМ ТИЗИМИНИ БОШҚАРИШ ВАЗИРЛАР МАҲКАМАСИ ВА ТАЪЛИМНИ БОШҚАРИШ БЎЙИЧА ВАКОЛАТЛИ ДАВЛАТ ИДОРАСИ ТОМОНИДАН АМАЛГА ОШИРИЛ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11280" y="41256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ҳуқуқий ҳужжатлар қабул қили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ҳуқуқига эга бўлган органлар ёки мансабдор шахс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232956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Олий Мажлисининг палата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нинг Президент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Ўзбекистон Республикаси Вазирлар Маҳкамас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ирликлар, давлат қўмиталари ва идоралар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5.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ҳаллий давлат ҳокимияти органлари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64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Ўзбекистон Республикас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Вазирлар Ма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масининг таълим со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 ягона давлат сиёсатини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со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сидаги давлат бош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руви органларига раҳбарлик </a:t>
            </a: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л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ни ривожлантириш дастурларини ишлаб чиқиш ва амалга оши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ташкил этиш, қайта ташкил этиш ва тугат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ълим муассасаларини аккредитациядан, педагог, илмий кадрларни аттестациядан ўтказиш тартибини белгила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шқа давлатларнинг таълим муассасаларига Ўзбекистон Республикасининг ҳудудида таълим фаолияти билан шуғулланиш ҳуқуқини берувчи рухсатномалар бериш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хорижий давлатларнинг таълим тўғрисидаги ҳужжатларини тан олиш ва ҳужжатларнинг эквивалент эканлигини қайд этиш тартибини белгилаш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аълим стандартларини тасдиқ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томонидан тасдиқланган намунадаги маълумот тўғрисидаги ҳужжатларни тасдиқлаш ва уларни бер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грантлари миқдори ва таълим муассасаларига қабул қил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лат олий таълим муассасасининг ректорларини тайин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ълим олувчиларни аккредитация қилинган бир таълим муассасасидан бошқасига ўтказиш тартибини белгилаш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000" spc="-1" strike="noStrike">
                <a:solidFill>
                  <a:srgbClr val="ffffff"/>
                </a:solidFill>
                <a:latin typeface="Arial"/>
              </a:rPr>
              <a:t>Қ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ун ҳужжатларига мувофиқ бошқа ваколатл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50920" y="357480"/>
            <a:ext cx="842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Таълимни бошқариш бўйича махсус ваколат берилган давлат органларининг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ҳуқуқ доирасиг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1753920"/>
            <a:ext cx="834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соҳасида ягона давлат сиёсатини рўёбга чиқар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Т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ълим муассасалари фаолиятини мувофиқлаштириш ва услубий масалаларда уларга раҳбарлик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Д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авлат таълим стандартлари, мутахассисларнинг билим савияси ва касб тайёргарлигига бўлган талаблар бажарилишини таъмин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4.Ў</a:t>
            </a: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қув ва ўқув-услубий адабиётларини нашр этишни ташкил қил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95280" y="46080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5.Ўқитишнинг илғор шакллари ва педагогик технологияларни, таълимнинг техник ва ахборот воситаларини ўқув жараёни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6.Таълим олувчиларнинг якуний давлат аттестацияси ва  экстернат тўғрисидаги низомларини тасдиқла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7.Давлат олий таълим муассасасининг ректорини тайинлаш тўғрисида Вазирлар Маҳкамасига таклифлар кири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8.Педагог ходимларни тайёрлашни, уларнинг малакасини оширишни ва қайта тайёрлашни ташкил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ffffff"/>
                </a:solidFill>
                <a:latin typeface="Tahoma"/>
              </a:rPr>
              <a:t>9.Қонун ҳужжатларига мувофиқ бошқа ваколат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33360" y="3924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ffffff"/>
                </a:solidFill>
                <a:latin typeface="Tahoma"/>
              </a:rPr>
              <a:t>Маҳаллий давлат ҳокимияти органларининг таълим соҳасидаги ваколатла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1527840"/>
            <a:ext cx="83516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1.Таълим муассасалари фаолиятининг минтақаларни ижтимоий-иқтисодий ривожлантириш эҳтиёжларига мувофиқлигини таъмин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Таълим муассасаларини ташкил этиш, қайта ташкил этиш ва тугатиш  уларнинг уставларини рўйхатга о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Ўз ҳудудларидаги таълим муассасаларини ваколат доирасида молиялаш миқдорларини ва имтиёзларни белгила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Таълим сифати ва даражасига, шунингдек, педагог ходимларнинг касб фаолиятига бўлган давлат талабларига риоя этилишини таъминлаш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5.Қонун ҳужжатларига мувофиқ бошқа ваколатлар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68360" y="2527920"/>
            <a:ext cx="7201440" cy="302256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z-Cyrl-UZ" sz="2600" spc="-1" strike="noStrike">
                <a:solidFill>
                  <a:srgbClr val="ffffff"/>
                </a:solidFill>
                <a:latin typeface="Arial"/>
              </a:rPr>
              <a:t>Вояга етмаган болаларнинг ота-оналари ёки қонуний вакиллари боланинг қонуний ҳуқуқлари ва манфаатларини ҳимоя қилишлари шарт эканлиги ҳамда уларнинг тарбияси, мактабгача, умумий ўрта, ўрта махсус, касб-ҳунар таълими олишлари учун жавобгар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с двумя скругленными противолежащими углами 14"/>
          <p:cNvSpPr/>
          <p:nvPr/>
        </p:nvSpPr>
        <p:spPr>
          <a:xfrm>
            <a:off x="684360" y="260280"/>
            <a:ext cx="8135640" cy="129708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-оналар ёки қонуний вакиллар</a:t>
            </a:r>
            <a:r>
              <a:rPr b="1" i="1" lang="uz-Cyrl-UZ" sz="3200" spc="-1" strike="noStrike">
                <a:solidFill>
                  <a:srgbClr val="ffffff"/>
                </a:solidFill>
                <a:latin typeface="Arial"/>
              </a:rPr>
              <a:t>нинг вазифалар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Таълимни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молияла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14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3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Бюджетдан ташқари маблағлар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1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Маҳаллий бюджетлар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20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Республика бюджети маблағлари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2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с двумя скругленными противолежащими углами 13"/>
          <p:cNvSpPr/>
          <p:nvPr/>
        </p:nvSpPr>
        <p:spPr>
          <a:xfrm>
            <a:off x="684360" y="2781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Таълимни ривожлантириш фондлари қонун ҳужжатларида белгиланган тартибда юридик ва жисмоний шахслар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хтиёрий бадалларидан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с двумя скругленными противолежащими углами 14"/>
          <p:cNvSpPr/>
          <p:nvPr/>
        </p:nvSpPr>
        <p:spPr>
          <a:xfrm>
            <a:off x="684360" y="4797360"/>
            <a:ext cx="7775280" cy="1368360"/>
          </a:xfrm>
          <a:prstGeom prst="pie">
            <a:avLst/>
          </a:prstGeom>
          <a:solidFill>
            <a:srgbClr val="3366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Чет эллик юридик ва жисмоний шахсларнинг ихтиёрий бадаллари ҳисобидан ташкил этилиши мумк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Заголовок 2"/>
          <p:cNvSpPr/>
          <p:nvPr/>
        </p:nvSpPr>
        <p:spPr>
          <a:xfrm>
            <a:off x="684360" y="476280"/>
            <a:ext cx="8032680" cy="1368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аълимни ривожлантириш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ондлари</a:t>
            </a:r>
            <a:r>
              <a:rPr b="1" i="1" lang="uz-Cyrl-UZ" sz="36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32680" cy="103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лқаро ҳамкорл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Скругленный прямоугольник 4"/>
          <p:cNvGrpSpPr/>
          <p:nvPr/>
        </p:nvGrpSpPr>
        <p:grpSpPr>
          <a:xfrm>
            <a:off x="2157480" y="5157720"/>
            <a:ext cx="6754680" cy="1066680"/>
            <a:chOff x="2157480" y="5157720"/>
            <a:chExt cx="6754680" cy="1066680"/>
          </a:xfrm>
        </p:grpSpPr>
        <p:pic>
          <p:nvPicPr>
            <p:cNvPr id="53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157720"/>
              <a:ext cx="6754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255760" y="5267880"/>
              <a:ext cx="656928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Қонун ҳужжатларида белгиланган тартибда улар билан қўшма ўқув юртлари ташкил этиш ҳуқуқига эга эканлиг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Скругленный прямоугольник 5"/>
          <p:cNvGrpSpPr/>
          <p:nvPr/>
        </p:nvGrpSpPr>
        <p:grpSpPr>
          <a:xfrm>
            <a:off x="2124000" y="3933720"/>
            <a:ext cx="6778440" cy="998640"/>
            <a:chOff x="2124000" y="3933720"/>
            <a:chExt cx="6778440" cy="998640"/>
          </a:xfrm>
        </p:grpSpPr>
        <p:pic>
          <p:nvPicPr>
            <p:cNvPr id="53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24000" y="393372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2222280" y="403560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Хорижий мамлакатларнинг тегишли ўқув юртлари билан бевосита алоқалар ўрнатиш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Скругленный прямоугольник 6"/>
          <p:cNvGrpSpPr/>
          <p:nvPr/>
        </p:nvGrpSpPr>
        <p:grpSpPr>
          <a:xfrm>
            <a:off x="2124000" y="2349360"/>
            <a:ext cx="6784920" cy="1150560"/>
            <a:chOff x="2124000" y="2349360"/>
            <a:chExt cx="6784920" cy="1150560"/>
          </a:xfrm>
        </p:grpSpPr>
        <p:pic>
          <p:nvPicPr>
            <p:cNvPr id="5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24000" y="2349360"/>
              <a:ext cx="6784920" cy="11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2219040" y="2512080"/>
              <a:ext cx="660420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uz-Cyrl-UZ" sz="2000" spc="-1" strike="noStrike">
                  <a:solidFill>
                    <a:srgbClr val="ffffff"/>
                  </a:solidFill>
                  <a:latin typeface="Arial"/>
                </a:rPr>
                <a:t>Таълим муассасалари таълим муаммолари юзасидан халқаро ҳамкорликда иштирок этишлар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8" name="Picture 2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5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6"/>
          <a:stretch/>
        </p:blipFill>
        <p:spPr>
          <a:xfrm>
            <a:off x="539640" y="5445000"/>
            <a:ext cx="1308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285840"/>
            <a:ext cx="8032680" cy="127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аълим тўғрисидаги қонун ҳужжатларини</a:t>
            </a:r>
            <a:br>
              <a:rPr sz="2800"/>
            </a:br>
            <a:r>
              <a:rPr b="1" i="1" lang="uz-Cyrl-UZ" sz="2800" spc="-1" strike="noStrike">
                <a:solidFill>
                  <a:srgbClr val="ffffff"/>
                </a:solidFill>
                <a:latin typeface="Arial"/>
              </a:rPr>
              <a:t>бузганлик учун жавобгарлик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Скругленный прямоугольник 4"/>
          <p:cNvGrpSpPr/>
          <p:nvPr/>
        </p:nvGrpSpPr>
        <p:grpSpPr>
          <a:xfrm>
            <a:off x="2157480" y="5224320"/>
            <a:ext cx="6754680" cy="1000440"/>
            <a:chOff x="2157480" y="5224320"/>
            <a:chExt cx="6754680" cy="1000440"/>
          </a:xfrm>
        </p:grpSpPr>
        <p:pic>
          <p:nvPicPr>
            <p:cNvPr id="54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157480" y="5224320"/>
              <a:ext cx="675468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255760" y="5327640"/>
              <a:ext cx="65692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Жино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Скругленный прямоугольник 5"/>
          <p:cNvGrpSpPr/>
          <p:nvPr/>
        </p:nvGrpSpPr>
        <p:grpSpPr>
          <a:xfrm>
            <a:off x="2157480" y="4011480"/>
            <a:ext cx="6778440" cy="998640"/>
            <a:chOff x="2157480" y="4011480"/>
            <a:chExt cx="6778440" cy="998640"/>
          </a:xfrm>
        </p:grpSpPr>
        <p:pic>
          <p:nvPicPr>
            <p:cNvPr id="546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157480" y="4011480"/>
              <a:ext cx="6778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2255760" y="4113360"/>
              <a:ext cx="6589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аъмур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Скругленный прямоугольник 6"/>
          <p:cNvGrpSpPr/>
          <p:nvPr/>
        </p:nvGrpSpPr>
        <p:grpSpPr>
          <a:xfrm>
            <a:off x="2157480" y="2901960"/>
            <a:ext cx="6784920" cy="963720"/>
            <a:chOff x="2157480" y="2901960"/>
            <a:chExt cx="6784920" cy="963720"/>
          </a:xfrm>
        </p:grpSpPr>
        <p:pic>
          <p:nvPicPr>
            <p:cNvPr id="549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157480" y="2901960"/>
              <a:ext cx="6784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252520" y="3038400"/>
              <a:ext cx="6604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Моддий жавобгарлик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Скругленный прямоугольник 7"/>
          <p:cNvGrpSpPr/>
          <p:nvPr/>
        </p:nvGrpSpPr>
        <p:grpSpPr>
          <a:xfrm>
            <a:off x="2157480" y="1755720"/>
            <a:ext cx="6784920" cy="1036800"/>
            <a:chOff x="2157480" y="1755720"/>
            <a:chExt cx="6784920" cy="1036800"/>
          </a:xfrm>
        </p:grpSpPr>
        <p:pic>
          <p:nvPicPr>
            <p:cNvPr id="552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157480" y="1755720"/>
              <a:ext cx="6784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260440" y="1832040"/>
              <a:ext cx="6588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2400" spc="-1" strike="noStrike">
                  <a:solidFill>
                    <a:srgbClr val="ffffff"/>
                  </a:solidFill>
                  <a:latin typeface="Arial"/>
                </a:rPr>
                <a:t>Интизомий жавобгарлик</a:t>
              </a:r>
              <a:r>
                <a:rPr b="1" lang="uz-Cyrl-UZ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4" name="Picture 2" descr=""/>
          <p:cNvPicPr/>
          <p:nvPr/>
        </p:nvPicPr>
        <p:blipFill>
          <a:blip r:embed="rId5"/>
          <a:stretch/>
        </p:blipFill>
        <p:spPr>
          <a:xfrm>
            <a:off x="571680" y="3071880"/>
            <a:ext cx="1214280" cy="536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6"/>
          <a:stretch/>
        </p:blipFill>
        <p:spPr>
          <a:xfrm>
            <a:off x="571680" y="4143240"/>
            <a:ext cx="1236600" cy="536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7"/>
          <a:stretch/>
        </p:blipFill>
        <p:spPr>
          <a:xfrm>
            <a:off x="571680" y="5357880"/>
            <a:ext cx="1307880" cy="546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8"/>
          <a:stretch/>
        </p:blipFill>
        <p:spPr>
          <a:xfrm>
            <a:off x="571680" y="2000160"/>
            <a:ext cx="1247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26920" y="404640"/>
            <a:ext cx="7705800" cy="1099440"/>
          </a:xfrm>
          <a:prstGeom prst="rect">
            <a:avLst/>
          </a:prstGeom>
          <a:noFill/>
          <a:ln w="28440">
            <a:solidFill>
              <a:srgbClr val="192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200" spc="-1" strike="noStrike">
                <a:solidFill>
                  <a:srgbClr val="ffffff"/>
                </a:solidFill>
                <a:latin typeface="Arial"/>
              </a:rPr>
              <a:t>меъёрий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-ҳуқуқий ҳужжатларини давлат рўйхатидан ўтказиш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916280"/>
            <a:ext cx="8209080" cy="4435560"/>
          </a:xfrm>
          <a:prstGeom prst="rect">
            <a:avLst/>
          </a:prstGeom>
          <a:noFill/>
          <a:ln w="93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 норматив-ҳуқуқий ҳужжатлар қабул қилинган кундан эътиборан ўн кун ичида уларни давлат рўйхатидан ўтказиш учун Ўзбекистон Республикаси Адлия вазирлигига тақдим эт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давлат рўйхатидан ўтказилмаган норматив-ҳуқуқий ҳужжатлари тегишли ижтимоий муносабатларни ҳуқуқий жиҳатдан тартибга солиш учун асос бўлиб хизмат қилиши мумкин эмас ва ҳуқуқий оқибатларга олиб келмай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азирликлар, давлат қўмиталари ва идораларнинг мансабдор шахслари давлат рўйхатидан ўтказилмаган норматив-ҳуқуқий ҳужжатларни амалга киритганлик учун маъмурий жавобгарликка тортилад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3068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84360" y="46188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лохаза юритиш учун саволл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1280" y="3575160"/>
            <a:ext cx="82072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тўғрисидаги Қонунда таълим сифати тушунчаси берилганми?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ОТМда т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аълим сифатини таъминлаш нималарга боғлиқ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Таълим сифати деганда нимани тушунасиз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4.Сиз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шла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ётган ОТМда таъли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сифатини таъминлаш учун нималар қилиш керак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11280" y="2492280"/>
            <a:ext cx="8064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ДРЛАР ТАЙЁРЛ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ИЛЛИЙ ДАСТУ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Ўзбекистон Республикас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лий Мажлисининг Ахборотномаси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997 й., 11-12-сон, 295-модда;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3" name="Picture 5" descr="C:\Users\Латыпов\Desktop\gerb.gif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39640" y="608760"/>
            <a:ext cx="83534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дрлар тайёрлаш миллий дасту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М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ллий тажрибанинг таҳлили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Т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ълим тизимидаги жаҳон миқёсидаги ютуқлар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Ю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сак умумий ва касб-ҳунар маданиятиг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одий ва ижтимоий фаолликк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тимоий-сиёсий ҳаётда мустақил равишда мўлжални тўғри ола билиш маҳоратига эга бўлган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-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иқбол вазифаларини илгари суриш ва ҳал этишга қодир кадрларнинг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янги авлодини шакллантиришга йўналтирилганди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3"/>
          <p:cNvSpPr/>
          <p:nvPr/>
        </p:nvSpPr>
        <p:spPr>
          <a:xfrm>
            <a:off x="250920" y="2205000"/>
            <a:ext cx="8713800" cy="36003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ълим соҳасини тубдан ислоҳ қилиш, уни ўтмишда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қолган мафкуравий қарашлар ва сарқитлардан тўл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ос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иш, ривожланган демократик давлатла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аражасида, юксак маънавий ва ахлоқий талабларг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воб</a:t>
            </a:r>
            <a:r>
              <a:rPr b="1" lang="uz-Cyrl-U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ерувчи юқори малакали кадрлар тайёрлаш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иллий тизимини яратишди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TextBox 3"/>
          <p:cNvGrpSpPr/>
          <p:nvPr/>
        </p:nvGrpSpPr>
        <p:grpSpPr>
          <a:xfrm>
            <a:off x="971640" y="549360"/>
            <a:ext cx="7485120" cy="934920"/>
            <a:chOff x="971640" y="549360"/>
            <a:chExt cx="7485120" cy="934920"/>
          </a:xfrm>
        </p:grpSpPr>
        <p:pic>
          <p:nvPicPr>
            <p:cNvPr id="567" name="TextBox 3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74851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036800" y="630360"/>
              <a:ext cx="72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Arial"/>
                </a:rPr>
                <a:t>ДАСТУРНИНГ </a:t>
              </a:r>
              <a:r>
                <a:rPr b="1" i="1" lang="uz-Cyrl-UZ" sz="3200" spc="-1" strike="noStrike">
                  <a:solidFill>
                    <a:srgbClr val="ffffff"/>
                  </a:solidFill>
                  <a:latin typeface="Arial"/>
                </a:rPr>
                <a:t>МАҚСАД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 “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аълим тўғрисида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и Қонунга мувофиқ таълим тизимини ислоҳ қилиш, давлат ва нодавлат таълим муассасалари ҳамда таълим ва кадрлар тайёрлаш соҳасида рақобат муҳитини шакллантириш негизида таълим тизимини ягона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ўқув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лмий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z-Cyrl-UZ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шлаб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чиқариш мажмуи сифатида изчил ривожлантиришни таъмин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Таълим ва кадрлар тайёрлаш тизимини жамиятда амалга оширилаётган янгиланиш, ривожланган демократик ҳуқуқий давлат қурилиши жараёнларига мосла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Кадрлар тайёрлаш тизими муассасаларини юқори малакали мутахассислар билан таъминлаш, педагогик фаолиятнинг нуфузи ва ижтимоий мақомини кўтариш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403280" y="47628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7b46d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СТУРНИНГ ВАЗИФАЛАРИ</a:t>
            </a:r>
            <a:endParaRPr b="1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7b46d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0920" y="54936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.Кадрлар тайёрлаш тизими ва мазмунини мамлакатнинг ижтимоий ва иқтисодий тараққиёти истиқболларидан, жамият эҳтиёжларидан, фан, маданият, техника ва технологиянинг замонавий ютуқларидан келиб чиққан ҳолда қайта қур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.Таълим олувчиларни маънавий-ахлоқий тарбиялашнинг ва маърифий ишларнинг самарали шакллари ҳамда услубларини ишлаб чиқиш ва жорий э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6.Таълим ва кадрлар тайёрлаш, таълим муассасаларини аттестациядан ўтказиш ва аккредитация қилиш сифатига баҳо беришнинг холис тизимини жорий қил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7.Янги ижтимоий-иқтисодий шароитларда таълимнинг талаб қилинадиган даражаси ва сифатини, кадрлар тайёрлаш тизимининг амалда фаолият кўрсатиши ва барқарор ривожланишининг кафолатларини, устуворлигини таъминловчи норматив, моддий-техника ва ахборот базасини яратиш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68360" y="765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Таълим, фан ва ишлаб чиқариш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нин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марали интеграциялашувини таъминлаш, тайёрланаётган кадрларнинг миқдори ва сифатига нисбатан давлатнинг талабларини, шунингдек</a:t>
            </a:r>
            <a:r>
              <a:rPr b="0" lang="uz-Cyrl-U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давлат тузилмалари, корхоналар ва ташкилотларнинг буюртмаларини шакллантиришнинг механизмларини ишлаб чиқ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Узлуксиз таълим ва кадрлар тайёрлаш тизимига бюджетдан ташқари маблағлар, шу жумладан чет эл инвестициялари жалб этишнинг реал механизмларини ишлаб чиқиш ва амалиётга жорий этиш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Кадрлар тайёрлаш соҳасида ўзаро манфаатли халқаро ҳамкорликни ривожлантири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971640" y="189000"/>
            <a:ext cx="72673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АСТУРНИ РЎЁБГА ЧИҚАРИ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СҚИЧЛА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5013360"/>
            <a:ext cx="8642160" cy="1191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Ч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5 ва ундан кейинги йиллар) тўпланган тажрибани таҳлил этиш ва умумлаштириш асосида, мамлакатни ижтимоий-иқтисодий ривожлантириш истиқболларига мувофиқ кадрлар тайёрлаш тизимини такомиллаштириш ва янада ривожлантир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789360"/>
            <a:ext cx="864216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КК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2001 — 2005 йиллар) Миллий дастурни тўлиқ рўёбга чиқариш, меҳнат бозорининг ривожланиши ва реал ижтимоий-иқтисодий шароитларни ҳисобга олган ҳолда унга аниқликлар кири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2205000"/>
            <a:ext cx="864216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ИРИНЧИ БОСҚ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1997 — 2001 йиллар) мавжуд кадрлар тайёрлаш тизимининг ижобий салоҳиятини сақлаб қолиш асосида ушбу тизимни ислоҳ қилиш ва ривожлантириш учун ҳуқуқий, кадрлар жиҳатидан, илмий-услубий, молиявий-моддий шарт-шароитлар ярат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50920" y="260280"/>
            <a:ext cx="8640720" cy="6336720"/>
            <a:chOff x="250920" y="260280"/>
            <a:chExt cx="8640720" cy="6336720"/>
          </a:xfrm>
        </p:grpSpPr>
        <p:cxnSp>
          <p:nvCxnSpPr>
            <p:cNvPr id="578" name="_s509956"/>
            <p:cNvCxnSpPr>
              <a:stCxn id="579" idx="1"/>
              <a:endCxn id="580" idx="2"/>
            </p:cNvCxnSpPr>
            <p:nvPr/>
          </p:nvCxnSpPr>
          <p:spPr>
            <a:xfrm rot="10800000">
              <a:off x="2842200" y="1004760"/>
              <a:ext cx="864720" cy="5219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1" name="_s509957"/>
            <p:cNvCxnSpPr>
              <a:stCxn id="582" idx="1"/>
              <a:endCxn id="580" idx="2"/>
            </p:cNvCxnSpPr>
            <p:nvPr/>
          </p:nvCxnSpPr>
          <p:spPr>
            <a:xfrm rot="10800000">
              <a:off x="2842200" y="1005480"/>
              <a:ext cx="864720" cy="4100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3" name="_s509958"/>
            <p:cNvCxnSpPr>
              <a:stCxn id="584" idx="1"/>
              <a:endCxn id="580" idx="2"/>
            </p:cNvCxnSpPr>
            <p:nvPr/>
          </p:nvCxnSpPr>
          <p:spPr>
            <a:xfrm rot="10800000">
              <a:off x="2842200" y="1004760"/>
              <a:ext cx="864720" cy="2982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509959"/>
            <p:cNvCxnSpPr>
              <a:stCxn id="586" idx="1"/>
              <a:endCxn id="580" idx="2"/>
            </p:cNvCxnSpPr>
            <p:nvPr/>
          </p:nvCxnSpPr>
          <p:spPr>
            <a:xfrm rot="10800000">
              <a:off x="2842200" y="1004760"/>
              <a:ext cx="864720" cy="186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509960"/>
            <p:cNvCxnSpPr>
              <a:stCxn id="588" idx="1"/>
              <a:endCxn id="580" idx="2"/>
            </p:cNvCxnSpPr>
            <p:nvPr/>
          </p:nvCxnSpPr>
          <p:spPr>
            <a:xfrm rot="10800000">
              <a:off x="2842200" y="1004760"/>
              <a:ext cx="864720" cy="74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0" name="_s509961"/>
            <p:cNvSpPr/>
            <p:nvPr/>
          </p:nvSpPr>
          <p:spPr>
            <a:xfrm>
              <a:off x="250920" y="260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Кадрлар тайёрлаш миллий моделининг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асосий таркибий қисмлари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509962"/>
            <p:cNvSpPr/>
            <p:nvPr/>
          </p:nvSpPr>
          <p:spPr>
            <a:xfrm>
              <a:off x="3707280" y="137844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Шахс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кадрлар тайёрлаш тизимининг б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субъекти ва объект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509963"/>
            <p:cNvSpPr/>
            <p:nvPr/>
          </p:nvSpPr>
          <p:spPr>
            <a:xfrm>
              <a:off x="3707280" y="24966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Давлат ва жамият</a:t>
              </a: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 -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 в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уларни қабул қилиб олишнинг кафиллари;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_s509964"/>
            <p:cNvSpPr/>
            <p:nvPr/>
          </p:nvSpPr>
          <p:spPr>
            <a:xfrm>
              <a:off x="3707280" y="361512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Узлуксиз таълим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 - малакали рақобатбардош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кадрлар тайёрлашнинг асоси</a:t>
              </a: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_s509965"/>
            <p:cNvSpPr/>
            <p:nvPr/>
          </p:nvSpPr>
          <p:spPr>
            <a:xfrm>
              <a:off x="3707280" y="473328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Фан </a:t>
              </a: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- юқори малакали мутахассислар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900" spc="-1" strike="noStrike">
                  <a:solidFill>
                    <a:srgbClr val="ffffff"/>
                  </a:solidFill>
                  <a:latin typeface="Arial"/>
                </a:rPr>
                <a:t>тайёрловчи ва улардан фойдаланувчи</a:t>
              </a: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_s509966"/>
            <p:cNvSpPr/>
            <p:nvPr/>
          </p:nvSpPr>
          <p:spPr>
            <a:xfrm>
              <a:off x="3707280" y="5851800"/>
              <a:ext cx="5184360" cy="7452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Ишлаб чиқариш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- кадрларга бўлган эҳтиёжни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уларнинг тайёргарлик сифа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а</a:t>
              </a: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  қўйиладиган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z-Cyrl-UZ" sz="1800" spc="-1" strike="noStrike">
                  <a:solidFill>
                    <a:srgbClr val="ffffff"/>
                  </a:solidFill>
                  <a:latin typeface="Arial"/>
                </a:rPr>
                <a:t>талабларни белгиловч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2852640"/>
            <a:ext cx="785016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3933720"/>
            <a:ext cx="792000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КОНСТИТУЦИЯВ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00000" y="5084640"/>
            <a:ext cx="788508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800" spc="-1" strike="noStrike">
                <a:solidFill>
                  <a:srgbClr val="eaeaea"/>
                </a:solidFill>
                <a:latin typeface="Arial"/>
              </a:rPr>
              <a:t>ЖОРИЙ ҚОНУН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Заголовок 2"/>
          <p:cNvSpPr/>
          <p:nvPr/>
        </p:nvSpPr>
        <p:spPr>
          <a:xfrm>
            <a:off x="755640" y="692280"/>
            <a:ext cx="8032680" cy="100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4400" spc="-1" strike="noStrike">
                <a:solidFill>
                  <a:srgbClr val="ffffff"/>
                </a:solidFill>
                <a:latin typeface="Arial"/>
              </a:rPr>
              <a:t>ҚОНУН ХУЖЖАТЛАР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250920" y="189000"/>
            <a:ext cx="8640720" cy="6408360"/>
            <a:chOff x="250920" y="189000"/>
            <a:chExt cx="8640720" cy="6408360"/>
          </a:xfrm>
        </p:grpSpPr>
        <p:cxnSp>
          <p:nvCxnSpPr>
            <p:cNvPr id="590" name="_s510980"/>
            <p:cNvCxnSpPr>
              <a:stCxn id="591" idx="1"/>
              <a:endCxn id="592" idx="2"/>
            </p:cNvCxnSpPr>
            <p:nvPr/>
          </p:nvCxnSpPr>
          <p:spPr>
            <a:xfrm rot="10800000">
              <a:off x="2842200" y="942120"/>
              <a:ext cx="864720" cy="527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3" name="_s510981"/>
            <p:cNvCxnSpPr>
              <a:stCxn id="594" idx="1"/>
              <a:endCxn id="592" idx="2"/>
            </p:cNvCxnSpPr>
            <p:nvPr/>
          </p:nvCxnSpPr>
          <p:spPr>
            <a:xfrm rot="10800000">
              <a:off x="2842200" y="942120"/>
              <a:ext cx="864720" cy="414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5" name="_s510982"/>
            <p:cNvCxnSpPr>
              <a:stCxn id="596" idx="1"/>
              <a:endCxn id="592" idx="2"/>
            </p:cNvCxnSpPr>
            <p:nvPr/>
          </p:nvCxnSpPr>
          <p:spPr>
            <a:xfrm rot="10800000">
              <a:off x="2842200" y="942120"/>
              <a:ext cx="864720" cy="301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7" name="_s510983"/>
            <p:cNvCxnSpPr>
              <a:stCxn id="598" idx="1"/>
              <a:endCxn id="592" idx="2"/>
            </p:cNvCxnSpPr>
            <p:nvPr/>
          </p:nvCxnSpPr>
          <p:spPr>
            <a:xfrm rot="10800000">
              <a:off x="2842200" y="942120"/>
              <a:ext cx="864720" cy="1885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9" name="_s510984"/>
            <p:cNvCxnSpPr>
              <a:stCxn id="600" idx="1"/>
              <a:endCxn id="592" idx="2"/>
            </p:cNvCxnSpPr>
            <p:nvPr/>
          </p:nvCxnSpPr>
          <p:spPr>
            <a:xfrm rot="10800000">
              <a:off x="2842200" y="942120"/>
              <a:ext cx="864720" cy="75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2" name="_s510985"/>
            <p:cNvSpPr/>
            <p:nvPr/>
          </p:nvSpPr>
          <p:spPr>
            <a:xfrm>
              <a:off x="250920" y="1890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КАДРЛАР ТАЙЁРЛАШ ТИЗИМИН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РИВОЖЛАНТИРИШНИНГ АСОС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Й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Ў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ЛИШЛАРИ</a:t>
              </a:r>
              <a:r>
                <a:rPr b="1" lang="uz-Cyrl-UZ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z-Cyrl-UZ" sz="19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510986"/>
            <p:cNvSpPr/>
            <p:nvPr/>
          </p:nvSpPr>
          <p:spPr>
            <a:xfrm>
              <a:off x="3707280" y="131976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нинг узлуксизлигини таъминла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_s510987"/>
            <p:cNvSpPr/>
            <p:nvPr/>
          </p:nvSpPr>
          <p:spPr>
            <a:xfrm>
              <a:off x="3707280" y="2450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едагог ва илмий-педагог кадрлар тайёрлаш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қайта тайёрлаш ва уларни малакасини ошириш</a:t>
              </a:r>
              <a:r>
                <a:rPr b="0" lang="uz-Cyrl-UZ" sz="17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_s510988"/>
            <p:cNvSpPr/>
            <p:nvPr/>
          </p:nvSpPr>
          <p:spPr>
            <a:xfrm>
              <a:off x="3707280" y="358164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ълим жараёнини мазмунан ислоҳ қилиш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_s510989"/>
            <p:cNvSpPr/>
            <p:nvPr/>
          </p:nvSpPr>
          <p:spPr>
            <a:xfrm>
              <a:off x="3707280" y="471240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аънавий-ахлоқий тарбия ва маъриф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_s510990"/>
            <p:cNvSpPr/>
            <p:nvPr/>
          </p:nvSpPr>
          <p:spPr>
            <a:xfrm>
              <a:off x="3707280" y="5843520"/>
              <a:ext cx="5184360" cy="7538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қтидорли болалар ва истеъдодли ёшлар</a:t>
              </a:r>
              <a:r>
                <a:rPr b="1" lang="uz-Cyrl-UZ" sz="18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95280" y="1052640"/>
            <a:ext cx="3600360" cy="2663640"/>
          </a:xfrm>
          <a:prstGeom prst="flowChartMagneticTap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5640" y="198900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бошқариш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8360" y="1052640"/>
            <a:ext cx="3529080" cy="2520720"/>
          </a:xfrm>
          <a:prstGeom prst="flowChartMagnetic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508720" y="1989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аълим тизимини молиялаш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4221000"/>
            <a:ext cx="3240000" cy="2232360"/>
          </a:xfrm>
          <a:prstGeom prst="flowChartMagneticTap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11280" y="472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Касб-ҳунар таълими сифатини назорат қилиш тизимини шакл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92720" y="4292640"/>
            <a:ext cx="3384720" cy="2232000"/>
          </a:xfrm>
          <a:prstGeom prst="flowChartMagneticTap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580000" y="5013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000" spc="-1" strike="noStrike">
                <a:solidFill>
                  <a:srgbClr val="000000"/>
                </a:solidFill>
                <a:latin typeface="Arial"/>
              </a:rPr>
              <a:t>Моддий техника таъмино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95280" y="333360"/>
            <a:ext cx="3672000" cy="1511280"/>
          </a:xfrm>
          <a:prstGeom prst="wedgeRoundRectCallout">
            <a:avLst>
              <a:gd name="adj1" fmla="val -55143"/>
              <a:gd name="adj2" fmla="val 5462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4000" y="2421000"/>
            <a:ext cx="3671640" cy="1584360"/>
          </a:xfrm>
          <a:prstGeom prst="wedgeRoundRectCallout">
            <a:avLst>
              <a:gd name="adj1" fmla="val -53157"/>
              <a:gd name="adj2" fmla="val 78856"/>
              <a:gd name="adj3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280" y="4653000"/>
            <a:ext cx="3888000" cy="1584360"/>
          </a:xfrm>
          <a:prstGeom prst="wedgeRoundRectCallout">
            <a:avLst>
              <a:gd name="adj1" fmla="val -48162"/>
              <a:gd name="adj2" fmla="val 71643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12000" y="189000"/>
            <a:ext cx="2952720" cy="1584360"/>
          </a:xfrm>
          <a:prstGeom prst="wedgeRoundRectCallout">
            <a:avLst>
              <a:gd name="adj1" fmla="val 38976"/>
              <a:gd name="adj2" fmla="val 73449"/>
              <a:gd name="adj3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27640" y="33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ан билан таълим жараёни алоқ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р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ни ри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2000" y="2349360"/>
            <a:ext cx="2952720" cy="1584360"/>
          </a:xfrm>
          <a:prstGeom prst="wedgeRoundRectCallout">
            <a:avLst>
              <a:gd name="adj1" fmla="val 40430"/>
              <a:gd name="adj2" fmla="val 72546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4720" y="2565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шлаб чиқа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риш ва таълим тиз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интеграциялашувини 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вожлантири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4508640"/>
            <a:ext cx="3097440" cy="1944720"/>
          </a:xfrm>
          <a:prstGeom prst="wedgeRoundRectCallout">
            <a:avLst>
              <a:gd name="adj1" fmla="val 38106"/>
              <a:gd name="adj2" fmla="val 65263"/>
              <a:gd name="adj3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12000" y="486900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ва кадрлар тайёрлаш сохасидаги халқаро ҳамкорлик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0920" y="479736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800" spc="-1" strike="noStrike">
                <a:solidFill>
                  <a:srgbClr val="000000"/>
                </a:solidFill>
                <a:latin typeface="Arial"/>
              </a:rPr>
              <a:t>Таълим сохасида ижтимоий кафолотларни таъминлаш хамда бу сохани давлат томонидан қўллаб қувватлаш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5640" y="2781360"/>
            <a:ext cx="2879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хизмати кўрсатиш бозорини ривожлан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640" y="620640"/>
            <a:ext cx="33116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900" spc="-1" strike="noStrike">
                <a:solidFill>
                  <a:srgbClr val="000000"/>
                </a:solidFill>
                <a:latin typeface="Arial"/>
              </a:rPr>
              <a:t>Таълим тизимининг яхлит ахборот маконини вужудга келтириш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95280" y="2781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ЭЪТИБОРИНГИЗ УЧУ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3048120"/>
                <a:tab algn="l" pos="3314880"/>
                <a:tab algn="l" pos="4038480"/>
                <a:tab algn="l" pos="4486320"/>
                <a:tab algn="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5400" spc="-1" strike="noStrike">
                <a:solidFill>
                  <a:srgbClr val="ffffff"/>
                </a:solidFill>
                <a:latin typeface="Arial"/>
              </a:rPr>
              <a:t>РАҲМАТ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1042920" y="4508640"/>
            <a:ext cx="7056360" cy="0"/>
          </a:xfrm>
          <a:prstGeom prst="line">
            <a:avLst/>
          </a:prstGeom>
          <a:ln w="1260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5" descr="uz1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4"/>
          <p:cNvGrpSpPr/>
          <p:nvPr/>
        </p:nvGrpSpPr>
        <p:grpSpPr>
          <a:xfrm>
            <a:off x="395280" y="620640"/>
            <a:ext cx="8352720" cy="5472000"/>
            <a:chOff x="395280" y="620640"/>
            <a:chExt cx="8352720" cy="5472000"/>
          </a:xfrm>
        </p:grpSpPr>
        <p:grpSp>
          <p:nvGrpSpPr>
            <p:cNvPr id="386" name="Rectangle 5"/>
            <p:cNvGrpSpPr/>
            <p:nvPr/>
          </p:nvGrpSpPr>
          <p:grpSpPr>
            <a:xfrm>
              <a:off x="2813400" y="620640"/>
              <a:ext cx="3590280" cy="1256040"/>
              <a:chOff x="2813400" y="620640"/>
              <a:chExt cx="3590280" cy="1256040"/>
            </a:xfrm>
          </p:grpSpPr>
          <p:pic>
            <p:nvPicPr>
              <p:cNvPr id="387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3400" y="620640"/>
                <a:ext cx="359028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2874960" y="655200"/>
                <a:ext cx="347724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Қонуности  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4000" spc="-1" strike="noStrike">
                    <a:solidFill>
                      <a:srgbClr val="ffffff"/>
                    </a:solidFill>
                    <a:latin typeface="Arial"/>
                  </a:rPr>
                  <a:t>хужжатлари: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Rectangle 6"/>
            <p:cNvGrpSpPr/>
            <p:nvPr/>
          </p:nvGrpSpPr>
          <p:grpSpPr>
            <a:xfrm>
              <a:off x="395280" y="2821680"/>
              <a:ext cx="3589560" cy="1261800"/>
              <a:chOff x="395280" y="2821680"/>
              <a:chExt cx="3589560" cy="1261800"/>
            </a:xfrm>
          </p:grpSpPr>
          <p:pic>
            <p:nvPicPr>
              <p:cNvPr id="390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45432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Н</a:t>
                </a:r>
                <a:r>
                  <a:rPr b="0" i="1" lang="en-US" sz="28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Rectangle 7"/>
            <p:cNvGrpSpPr/>
            <p:nvPr/>
          </p:nvGrpSpPr>
          <p:grpSpPr>
            <a:xfrm>
              <a:off x="395280" y="4836600"/>
              <a:ext cx="3589560" cy="1256040"/>
              <a:chOff x="395280" y="4836600"/>
              <a:chExt cx="3589560" cy="1256040"/>
            </a:xfrm>
          </p:grpSpPr>
          <p:pic>
            <p:nvPicPr>
              <p:cNvPr id="393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28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454320" y="487368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Қ</a:t>
                </a:r>
                <a:r>
                  <a:rPr b="1" i="1" lang="ru-RU" sz="2800" spc="-1" strike="noStrike">
                    <a:solidFill>
                      <a:srgbClr val="ffffff"/>
                    </a:solidFill>
                    <a:latin typeface="Arial"/>
                  </a:rPr>
                  <a:t>АРОР</a:t>
                </a:r>
                <a:r>
                  <a:rPr b="0" lang="ru-RU" sz="2400" spc="-1" strike="noStrike">
                    <a:solidFill>
                      <a:srgbClr val="e8005e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Rectangle 8"/>
            <p:cNvGrpSpPr/>
            <p:nvPr/>
          </p:nvGrpSpPr>
          <p:grpSpPr>
            <a:xfrm>
              <a:off x="5158440" y="4836600"/>
              <a:ext cx="3589560" cy="1256040"/>
              <a:chOff x="5158440" y="4836600"/>
              <a:chExt cx="3589560" cy="1256040"/>
            </a:xfrm>
          </p:grpSpPr>
          <p:pic>
            <p:nvPicPr>
              <p:cNvPr id="3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158440" y="4836600"/>
                <a:ext cx="3589560" cy="12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218200" y="4871520"/>
                <a:ext cx="34765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z-Cyrl-UZ" sz="2800" spc="-1" strike="noStrike">
                    <a:solidFill>
                      <a:srgbClr val="ffffff"/>
                    </a:solidFill>
                    <a:latin typeface="Arial"/>
                  </a:rPr>
                  <a:t>БУЙРУҚ</a:t>
                </a:r>
                <a:r>
                  <a:rPr b="0" i="1" lang="ru-RU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Rectangle 9"/>
            <p:cNvGrpSpPr/>
            <p:nvPr/>
          </p:nvGrpSpPr>
          <p:grpSpPr>
            <a:xfrm>
              <a:off x="5158440" y="2821680"/>
              <a:ext cx="3589560" cy="1261800"/>
              <a:chOff x="5158440" y="2821680"/>
              <a:chExt cx="3589560" cy="1261800"/>
            </a:xfrm>
          </p:grpSpPr>
          <p:pic>
            <p:nvPicPr>
              <p:cNvPr id="399" name="Rectangl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8440" y="2821680"/>
                <a:ext cx="3589560" cy="12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5218200" y="2859840"/>
                <a:ext cx="3476520" cy="11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ФАРМОЙИШ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Line 10"/>
            <p:cNvSpPr/>
            <p:nvPr/>
          </p:nvSpPr>
          <p:spPr>
            <a:xfrm>
              <a:off x="4538520" y="1804680"/>
              <a:ext cx="0" cy="393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4538520" y="57373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 flipH="1">
              <a:off x="3933360" y="57373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H="1">
              <a:off x="3933360" y="3435120"/>
              <a:ext cx="60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>
              <a:off x="4538520" y="3435120"/>
              <a:ext cx="67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68360" y="2993760"/>
            <a:ext cx="820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Қонун 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2. Фармон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3. Фармойиш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4. Қарор.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5. Буйруқ........................................................................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85264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2"/>
          <p:cNvSpPr/>
          <p:nvPr/>
        </p:nvSpPr>
        <p:spPr>
          <a:xfrm>
            <a:off x="900000" y="476280"/>
            <a:ext cx="5472360" cy="936720"/>
          </a:xfrm>
          <a:prstGeom prst="horizontalScroll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800" spc="-1" strike="noStrike">
                <a:solidFill>
                  <a:srgbClr val="ff0000"/>
                </a:solidFill>
                <a:latin typeface="Arial"/>
              </a:rPr>
              <a:t>С  А  В  О  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ятно 1 8"/>
          <p:cNvSpPr/>
          <p:nvPr/>
        </p:nvSpPr>
        <p:spPr>
          <a:xfrm>
            <a:off x="0" y="1500120"/>
            <a:ext cx="9144000" cy="5357880"/>
          </a:xfrm>
          <a:prstGeom prst="irregularSeal1">
            <a:avLst/>
          </a:prstGeom>
          <a:gradFill rotWithShape="0">
            <a:gsLst>
              <a:gs pos="0">
                <a:srgbClr val="a3eeff"/>
              </a:gs>
              <a:gs pos="100000">
                <a:srgbClr val="e5faff"/>
              </a:gs>
            </a:gsLst>
            <a:lin ang="16200000"/>
          </a:gradFill>
          <a:ln cap="rnd" w="6480">
            <a:solidFill>
              <a:srgbClr val="5bb2ca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ҳамат, кимдан эшитамиз</a:t>
            </a:r>
            <a:r>
              <a:rPr b="0" lang="uz-Cyrl-U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.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2" descr=""/>
          <p:cNvPicPr/>
          <p:nvPr/>
        </p:nvPicPr>
        <p:blipFill>
          <a:blip r:embed="rId1"/>
          <a:stretch/>
        </p:blipFill>
        <p:spPr>
          <a:xfrm>
            <a:off x="8388360" y="189000"/>
            <a:ext cx="4190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9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39:02Z</dcterms:created>
  <dc:creator>LORD</dc:creator>
  <dc:description/>
  <dc:language>en-US</dc:language>
  <cp:lastModifiedBy>User</cp:lastModifiedBy>
  <dcterms:modified xsi:type="dcterms:W3CDTF">2015-09-16T16:00:27Z</dcterms:modified>
  <cp:revision>248</cp:revision>
  <dc:subject/>
  <dc:title>Слайд 1</dc:title>
</cp:coreProperties>
</file>